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E28A-A530-4EA4-B2FE-3D711AC4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5AD-58C8-4059-8266-364D5227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92A-62AB-452A-8A87-A1AC8D94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B78-D501-4C92-8563-5787FCEE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920-9F82-4D60-8048-4FA98B1A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FD35-99C6-4DE0-8849-6B371D95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E3F-E7F6-4582-A714-1100DF24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763-033B-4EAA-B554-AFEC92EC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368-FA60-4011-9976-DA29C1BE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48F-3395-4A56-B5F8-43C2E999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AF7-F488-48B0-A7C1-91F94FA5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06F-0D29-4E32-ABE9-2504E7B1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65575-A27F-48B7-BE77-D81CE9ACCB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1" descr="image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10-00.wav" descr=""/>
          <p:cNvPicPr/>
          <p:nvPr/>
        </p:nvPicPr>
        <p:blipFill>
          <a:blip r:embed="rId2"/>
          <a:stretch/>
        </p:blipFill>
        <p:spPr>
          <a:xfrm>
            <a:off x="93614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7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after some tim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しばらくし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0-01_after_some_time_しばらくして.wav" descr=""/>
          <p:cNvPicPr/>
          <p:nvPr/>
        </p:nvPicPr>
        <p:blipFill>
          <a:blip r:embed="rId1"/>
          <a:stretch/>
        </p:blipFill>
        <p:spPr>
          <a:xfrm>
            <a:off x="94489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77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judg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裁判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10-02_judge_裁判官.wav" descr=""/>
          <p:cNvPicPr/>
          <p:nvPr/>
        </p:nvPicPr>
        <p:blipFill>
          <a:blip r:embed="rId1"/>
          <a:stretch/>
        </p:blipFill>
        <p:spPr>
          <a:xfrm>
            <a:off x="939024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91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turn to A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の方を向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0-03_turn_to_A_Aの方を向く.wav" descr=""/>
          <p:cNvPicPr/>
          <p:nvPr/>
        </p:nvPicPr>
        <p:blipFill>
          <a:blip r:embed="rId1"/>
          <a:stretch/>
        </p:blipFill>
        <p:spPr>
          <a:xfrm>
            <a:off x="93614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77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bu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以外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10-04_but_～以外の.wav" descr=""/>
          <p:cNvPicPr/>
          <p:nvPr/>
        </p:nvPicPr>
        <p:blipFill>
          <a:blip r:embed="rId1"/>
          <a:stretch/>
        </p:blipFill>
        <p:spPr>
          <a:xfrm>
            <a:off x="93470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57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put A back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コンテンツ プレースホルダー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</a:t>
            </a:r>
            <a:r>
              <a:rPr b="0" lang="ja-JP" sz="8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元に戻す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0-05_put_A_back_Aを元に戻す.wav" descr=""/>
          <p:cNvPicPr/>
          <p:nvPr/>
        </p:nvPicPr>
        <p:blipFill>
          <a:blip r:embed="rId1"/>
          <a:stretch/>
        </p:blipFill>
        <p:spPr>
          <a:xfrm>
            <a:off x="936144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109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1:11:52Z</dcterms:created>
  <dc:creator>manji osamu</dc:creator>
  <dc:description/>
  <dc:language>en-US</dc:language>
  <cp:lastModifiedBy>lez000152</cp:lastModifiedBy>
  <cp:lastPrinted>2014-01-10T02:07:42Z</cp:lastPrinted>
  <dcterms:modified xsi:type="dcterms:W3CDTF">2014-02-03T05:32:14Z</dcterms:modified>
  <cp:revision>51</cp:revision>
  <dc:subject/>
  <dc:title>Aaaa</dc:title>
</cp:coreProperties>
</file>