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52C-948B-42B8-BA7B-219217A6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5EE-921D-4B3C-97C7-DBB833E7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9B9-F8D7-4394-96AC-46DAC74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B0E-4AC8-4A67-AF52-89D93C62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9DD-EA36-4F01-A181-B7E71C0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E7F-89EE-4FB2-A0A3-09B809E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301-971A-4DAA-BBA6-06F069AD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538-6701-4A89-9D0D-59CB1C6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90A-1C5B-41A5-961E-6E47186D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871-6E8C-4F56-8A48-7F5F689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259-52CE-43B7-989A-BF7597A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0EA-9CC7-4B8A-A26F-E3158A8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8E8B3-CCB3-467C-B791-572C2EA417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image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9-00.wav" descr=""/>
          <p:cNvPicPr/>
          <p:nvPr/>
        </p:nvPicPr>
        <p:blipFill>
          <a:blip r:embed="rId2"/>
          <a:stretch/>
        </p:blipFill>
        <p:spPr>
          <a:xfrm>
            <a:off x="9522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7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ake care of 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世話をす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9-09_take_care_of_A_Aの世話をする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82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hie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泥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9-10_thief_泥棒.wav" descr=""/>
          <p:cNvPicPr/>
          <p:nvPr/>
        </p:nvPicPr>
        <p:blipFill>
          <a:blip r:embed="rId1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51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ake A aw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持ち去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9-11_take_away_A_Aを持ち去る.wav" descr=""/>
          <p:cNvPicPr/>
          <p:nvPr/>
        </p:nvPicPr>
        <p:blipFill>
          <a:blip r:embed="rId1"/>
          <a:stretch/>
        </p:blipFill>
        <p:spPr>
          <a:xfrm>
            <a:off x="93470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69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pain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絵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9-12_painting_絵画.wav" descr=""/>
          <p:cNvPicPr/>
          <p:nvPr/>
        </p:nvPicPr>
        <p:blipFill>
          <a:blip r:embed="rId1"/>
          <a:stretch/>
        </p:blipFill>
        <p:spPr>
          <a:xfrm>
            <a:off x="93470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62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uddenl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突然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9-01_suddenly_突然に.wav" descr=""/>
          <p:cNvPicPr/>
          <p:nvPr/>
        </p:nvPicPr>
        <p:blipFill>
          <a:blip r:embed="rId1"/>
          <a:stretch/>
        </p:blipFill>
        <p:spPr>
          <a:xfrm>
            <a:off x="93902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1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blin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の見えな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9-02_blind_目の見えない.wav" descr=""/>
          <p:cNvPicPr/>
          <p:nvPr/>
        </p:nvPicPr>
        <p:blipFill>
          <a:blip r:embed="rId1"/>
          <a:stretch/>
        </p:blipFill>
        <p:spPr>
          <a:xfrm>
            <a:off x="94201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4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medici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9-03_medicine_薬.wav" descr=""/>
          <p:cNvPicPr/>
          <p:nvPr/>
        </p:nvPicPr>
        <p:blipFill>
          <a:blip r:embed="rId1"/>
          <a:stretch/>
        </p:blipFill>
        <p:spPr>
          <a:xfrm>
            <a:off x="9477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7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p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人）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金）を払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9-04_pay_（人）に（金）を払う.wav" descr=""/>
          <p:cNvPicPr/>
          <p:nvPr/>
        </p:nvPicPr>
        <p:blipFill>
          <a:blip r:embed="rId1"/>
          <a:stretch/>
        </p:blipFill>
        <p:spPr>
          <a:xfrm>
            <a:off x="94201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17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anothe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う１つ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9-05_another_もう１つの.wav" descr=""/>
          <p:cNvPicPr/>
          <p:nvPr/>
        </p:nvPicPr>
        <p:blipFill>
          <a:blip r:embed="rId1"/>
          <a:stretch/>
        </p:blipFill>
        <p:spPr>
          <a:xfrm>
            <a:off x="9333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1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ev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ら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9-06_even_さらに.wav" descr=""/>
          <p:cNvPicPr/>
          <p:nvPr/>
        </p:nvPicPr>
        <p:blipFill>
          <a:blip r:embed="rId1"/>
          <a:stretch/>
        </p:blipFill>
        <p:spPr>
          <a:xfrm>
            <a:off x="93902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62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for a long tim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長い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9-07_for_a_long_time_長い間.wav" descr=""/>
          <p:cNvPicPr/>
          <p:nvPr/>
        </p:nvPicPr>
        <p:blipFill>
          <a:blip r:embed="rId1"/>
          <a:stretch/>
        </p:blipFill>
        <p:spPr>
          <a:xfrm>
            <a:off x="937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51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unhapp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不幸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9-08_unhappy_不幸な.wav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80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11:52Z</dcterms:created>
  <dc:creator>manji osamu</dc:creator>
  <dc:description/>
  <dc:language>en-US</dc:language>
  <cp:lastModifiedBy>le01112</cp:lastModifiedBy>
  <cp:lastPrinted>2014-01-10T02:07:42Z</cp:lastPrinted>
  <dcterms:modified xsi:type="dcterms:W3CDTF">2014-02-05T05:38:40Z</dcterms:modified>
  <cp:revision>54</cp:revision>
  <dc:subject/>
  <dc:title>Aaaa</dc:title>
</cp:coreProperties>
</file>